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EF4C-AE48-4B10-AAB5-46862F21F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FED0-4386-489F-9ED3-B10A2F73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02CA-B9F8-4F9B-83F3-1927D17DB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127D-4F01-4007-ADB2-A9982BB15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331B-DEBE-473A-AE81-EDC1536A9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CD99-BB53-4EF8-B046-6402387D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5E58-5779-4FD5-A164-AE22AE25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42B8-3DC9-414F-9CC6-8E6F9A90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5FA9-4AD7-4778-BCCC-9606520D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E881-547B-4B08-84CF-8CBF158B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5DB9-18EF-4486-A6FE-D2D4A6DB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208C-D7B4-4DF2-A469-2D97FAD5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BEA2-C097-4311-BC7A-12455AFD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7A00-B5E8-4E74-89CE-208D86C8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3706-0A12-49F0-99B2-C7D54D21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30E9-6A5B-4E84-B31A-FC9F6BAFE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8421-1E4F-404E-AF88-7837782ED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FEEBA-EBBF-400A-BF2F-C3594B26E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3D3C3-420B-4A82-9A3C-4E9F30FF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57F2E-40DC-458B-BAEF-3DCD9FF8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DCE99-B404-4FE0-A3B2-E31C8DB3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31E51-1669-4676-984F-FFDEE6CC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4AAA-6DC6-45B0-8766-ABBF1130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DB23E-0420-49EA-A690-D834204E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35460-C942-4EB5-877A-19CD5589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39506-8B56-43E6-A867-BEDEAC2A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2FD43-189F-4BEC-B4EA-23392E54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E9167-4FBA-4CE6-AD0D-A303A744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8E0E4-AA6E-472D-B7B4-86FF7BA22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DA160-F8C3-4894-ADFD-C5CC8F8CE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96A9E-7310-4F8C-877A-CC37F03A8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CDC02-E453-49DD-A665-4F42C735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DCA73-172E-4B4A-9687-178E2357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B186-00BA-40C4-8D93-4BF3CD04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93EF6-147D-467B-8D46-274022AA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1857D-232B-4B7E-A6EF-E0624B39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E9890-D080-4B69-9BA0-1D0821B5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101BD-DACA-459B-8DFC-4A1D13E7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DA6D4-D264-4C8C-AA60-9B0577C5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B987C-DE7A-44E2-8A90-F51A8713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FBDE1-E174-461C-9C26-7D93CCA9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802E6-6636-417E-9ABB-E71C1BE26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B1A37-9F67-4E65-B52D-AE06AEB94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76A2F-C452-4C3A-9AA9-3283FE09C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B272-04C3-4797-AFF8-6D79CFBE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9BD12-A83D-40E9-BCF2-473FD9C8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E7286-4C2B-4C55-85F8-72D5E56D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FC9B2-0299-487F-8BAF-E320BFB6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EBCAF-AE79-48E8-BB4B-E014B6E6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CF185-3832-438C-B3B8-661E15B5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3B168-D389-433E-80D5-D384CE76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1E988-5DDF-4056-93FB-89D5B11E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A977F-E2A0-4B3E-8B27-09CEB7EF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17777-C0BD-49B4-B441-7D079B36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917F7-6417-4700-8EC5-F6F5CF790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D5FE-25A5-4747-B7ED-78DC8CC0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01E82-E3B8-460D-ACCB-F2BA59192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19C48-FC43-4267-B952-0D46BF477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9A88C-0365-41CE-AC16-EAB71F75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BEC2C-95F5-4880-848A-A8925737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6E95C-61C8-4D21-99FE-39372DD8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96601-BCEE-4674-95CF-382C38F7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FE854-6D4C-475D-B7A3-FBECC064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9FCCF-8310-4A6B-9BF7-C3DD3582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8E0E2-3AFD-488F-8AB6-B11C1608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92597-F256-43BB-93D4-B591B535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920A-D691-4863-99E8-5235E7A3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8FCF3-687D-496F-A5A7-9B94AA36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FCD28-A77A-44B7-B1F7-8824580A3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0863C-DF87-4D34-88F3-52D65F6CC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222AA-70FE-4A62-91D4-C9AA0CF0B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9D752-BB1D-4D3C-A6BA-7419972D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A0D3D-D205-4F28-9BA7-B0680C2B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D878D-4B90-4E49-81CA-71D6D82D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AE294-C283-4FD9-8A25-BA6E1A63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4ADCC-4EFE-4719-A35D-77B55113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72B25-2DDF-40B5-A5CA-2F0EBE2F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87A5-3355-49DA-ADA8-F330DB58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6A10F-DC3B-4F97-8D33-E0C68DC7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4B8DC-A003-47A0-8E4B-079AFFC5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6013B-F91C-4A16-9937-664C4516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4155E-7A4E-4767-A05A-C3D1BC272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69EF5-4015-453E-B487-3B76D2B79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584BE-95B5-4E53-8D7F-FF4CE8AB5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EE35D-F20A-4222-A36E-CFE0DDBA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78044-CD30-4336-B8F9-D8D70A88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DFB38-E93B-48CF-B116-547A2602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468D7-13A9-43AC-A8BB-218C61F3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C7EC-E72C-4889-9C98-4E46EA0D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2C1CA-5008-4C11-BE4A-7577AFF0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B7D17-6086-4626-BDF4-2221681A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94DE9-23E6-4754-970A-06BB11DF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373E9-3A63-4E30-82B1-D768029F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C583C-4C42-40F7-B266-95AE457E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5A17D-4207-4786-B880-4E462AE3A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CA1CE-890D-41AB-9CA4-86BB3D9DF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iunghi drept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Conector drep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412F-FF13-48AC-9A5B-54A0980F0608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unghi drept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8a8a8a"/>
              </a:gs>
              <a:gs pos="50000">
                <a:srgbClr val="e1e1e1"/>
              </a:gs>
              <a:gs pos="100000">
                <a:srgbClr val="8a8a8a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are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ormă liberă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eaeae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ormă liberă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ormă liberă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ormă liberă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Conector drept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0E22-7B74-4558-B4A8-5C50575526B3}" type="slidenum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În zigzag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În zigzag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6FA6-189F-40C9-98EB-671F62611324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DC95-A77B-4132-A286-6A93901A176F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CD2C-DB33-4064-8948-89278B6219CA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9626-1D5F-473A-BFAF-729D3E3A44E2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E560-A319-4C4D-9E5E-06F611E1B379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rmă liberă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rmă liberă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Triunghi drept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Triunghi drept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Conector drept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În zigzag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În zigzag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926A-9449-4EAE-A6AA-E4CE6E9BCB8B}" type="slidenum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u 1" descr=""/>
          <p:cNvPicPr/>
          <p:nvPr/>
        </p:nvPicPr>
        <p:blipFill>
          <a:blip r:embed="rId1"/>
          <a:stretch/>
        </p:blipFill>
        <p:spPr>
          <a:xfrm>
            <a:off x="603360" y="542880"/>
            <a:ext cx="7785000" cy="18399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23640" y="2852640"/>
            <a:ext cx="8134200" cy="1959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ipuri de informaţii / date: numerice, şiruri de caractere (texte), imagini, logic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Lucida Sans Unicode"/>
              </a:rPr>
              <a:t>Tipul datei determină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Lucida Sans Unicode"/>
              </a:rPr>
              <a:t>- domeniul de valori pe care le poate lua dat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Lucida Sans Unicode"/>
              </a:rPr>
              <a:t>- prelucrările care se pot face cu acea dată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0" y="259920"/>
            <a:ext cx="9144000" cy="600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Lucida Sans Unicode"/>
              </a:rPr>
              <a:t>TIPURI DE DAT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1.Tipul numeric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este folosit pentru reprezentarea informației numerice(valorile numerice reale). Se pot folosi cifre de la 0-9,virgula, punctul, %, E, 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120.000=12X10</a:t>
            </a:r>
            <a:r>
              <a:rPr b="0" lang="ro-RO" sz="20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=12E4(scriere științifică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Prelucrările care se pot face cu acest tip de dată sunt prelucrările aritmetice și comparații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2. </a:t>
            </a: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Tipul șir de caractere 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–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este folosit pentru reprezentarea informației alfanumerice. Prelucrările care se pot face pe acest tip sunt concatenarea și comparații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3.Tipul logic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– este folosit pentru reprezentarea datelor care nu pot lua decât două valori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true sau fals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 Se pot realiza prelucrări logic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4. Tipul dată calendaristică și tim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5. Tipul imag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1. </a:t>
            </a: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Fișie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2. Foi de calcul -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program de calcul tabelar (de ex. Excel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3. </a:t>
            </a:r>
            <a:r>
              <a:rPr b="1" lang="ro-RO" sz="2800" spc="-1" strike="noStrike">
                <a:solidFill>
                  <a:srgbClr val="000000"/>
                </a:solidFill>
                <a:latin typeface="Lucida Sans Unicode"/>
              </a:rPr>
              <a:t>Tabe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- permit gruparea unor date înrudite și este format din linii și coloan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4. Baze de date-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sunt formate din unul sau mai multe tabele între care se pot stabili legături numite relații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5. Lis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u 2" descr=""/>
          <p:cNvPicPr/>
          <p:nvPr/>
        </p:nvPicPr>
        <p:blipFill>
          <a:blip r:embed="rId1"/>
          <a:stretch/>
        </p:blipFill>
        <p:spPr>
          <a:xfrm>
            <a:off x="390600" y="-6480"/>
            <a:ext cx="824076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Aplicație: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Construiți în registrul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Exemp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, un tabel cu cheltuielile lunare pentru utilități: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apă, gaze și electricitat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 Tabelul va avea 15 coloane: una pentru tipul utilității, 12 pentru fiecare lună, una pentru totalul pe an al cheltuielilor pentru o utilitate și una cu media anuală a cheltuielilor pentru o utilitate. Când executați operații de copiere sau de selectare a celulelor de pe un rând, pentru a putea lucra cu toate coloanele micșorați scara de vizualizare la 50 %. După ce executați operația, reveniți la scara de afișare 100%. Dați foii de calcul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Cheltuieli anua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A. Introduceți în celula A1 titlul tabelului: Cheltuieli anua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B. Introduceți în rândul 2 anteturile pentru coloan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C. Introduceți în coloana A anteturile pentru rândur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D. Formatați cu stilul bold titlul și anteturile de rânduri și coloan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E. Introduceți date în celulele B3:M5. Corectați datele introduse greșit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F. Selectați blocul de celule B3:M3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Apa 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G. Selectați blocul de celule B4:M4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Gaz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H. Selectați blocul de celule B5:M5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Electricitat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-324000" y="0"/>
            <a:ext cx="9468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Proiectarea unei baze de date – Material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1.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Tabelul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 Materiale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conține următoarele câmpuri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Identificatorul materialulu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cod_mat,I). Va fi folosit pentru cheia primară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Numele materialulu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den_mat, C, 30). Acest câmp va fi cheie de indexar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Unitatea de măsur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um,C,4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Prețul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preț,S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Stocul de siguranț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stoc_s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Tabelul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Mișcăr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conține următoarele câmpuri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Identificatorul materialului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 cod_mat,I)- identifică unic articolul și este folosit pentru cheia secundară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Tipul mișcării 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tip_m,C,1). Pot fi 2 tipuri de mișcări: intrarea unui material (I) și ieșirea unui material (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Cantitatea intrat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(cant_i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Cantitatea ieșit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cant_e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Data mișcării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data_m,D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Intre tabelul Materiale și tabelul Mișcări se stabilește o relație în care tabelul conducător este tabelul Materiale , tabelul condus este tabelul Mișcări, iar câmpul de legătură este codul materialulu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10:31:48Z</dcterms:created>
  <dc:creator>user</dc:creator>
  <dc:description/>
  <dc:language>en-US</dc:language>
  <cp:lastModifiedBy>Nik</cp:lastModifiedBy>
  <dcterms:modified xsi:type="dcterms:W3CDTF">2011-11-01T18:20:47Z</dcterms:modified>
  <cp:revision>15</cp:revision>
  <dc:subject/>
  <dc:title>I. Organizarea datelor </dc:title>
</cp:coreProperties>
</file>